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BDB9-F25C-4D84-98F4-029EB328F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739A-75A5-4E2A-91E3-81F14F94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2889-54EB-4988-B397-44C66BC4A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60A1-285D-494E-8B53-FC038D519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1E24-D80C-4AC1-BD4A-30A27062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02AB-857B-40F8-8B3B-8F256FA4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2D9C-7E24-4CAA-B72E-0CC4C08B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AAFE-7952-4EA6-AEE3-8A356AA2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5860-A8F0-44DC-B34D-A4BD8588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CE97-FB5A-4CA0-A0C5-7A9777F5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C54C-0295-4624-9CB9-560EE674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D6C2-59AB-4344-8592-D0B035B5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72A4-0E8E-4677-A78D-64CF79F4E1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Who makes toys at Christm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li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a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How many people celebrate Christmas every y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ous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ill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ill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What date is Christm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4th Dec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5th Dec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1st Dec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How do you spell Santa’s last n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What colours do we use for Christm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Red, White and B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Yellow, Green and B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Green, White and 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What meat do we eat at Christm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ur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ic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ambu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Which of these is one of Santa’s reinde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and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udol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a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What goes on top of the Christmas t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Santa Claus is also called Saint Nicho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How many days of Christmas are there (traditionally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4T05:33:38Z</dcterms:created>
  <dc:creator>edu1</dc:creator>
  <dc:description/>
  <dc:language>en-US</dc:language>
  <cp:lastModifiedBy>个人用户</cp:lastModifiedBy>
  <dcterms:modified xsi:type="dcterms:W3CDTF">2012-12-22T09:43:16Z</dcterms:modified>
  <cp:revision>4</cp:revision>
  <dc:subject/>
  <dc:title>幻灯片 1</dc:title>
</cp:coreProperties>
</file>